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882-D10A-4AEB-8247-42F7C790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6DA-5045-45EE-BCF7-F3C153E1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2DD-0BD7-4593-AEAB-62C4366A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BAE-F243-4FDE-A283-ACC04EF9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7170-F227-4554-8965-8F57EFE3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B7E8-5FD7-46E2-9914-1A970CA4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5240-2CDD-4DEE-BF41-509EF67C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A5FA-7334-4557-B49B-012F11FC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A23D-615F-4A28-A0ED-97EC152C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3A7E-BA10-488A-B5A8-1C8D40F0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BFB3-4BD4-4409-8332-92290049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56A-5FFF-4BEA-818B-CE3368CF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A260-2895-45E9-B5D8-B09A379D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79BE-2075-49D5-9ED4-F372AFCC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6020-637E-452A-A222-AD6D1E7F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D906-E719-45E6-BD7C-E425F0CB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B366-2EEA-4F49-8521-E19D78E7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CFB-8BFE-4AE7-98E0-8D41FDDC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7B6-B601-404D-9986-56C1CC1F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59D-584D-496E-AEEB-217EDAFB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50C-FC75-4924-B5D9-57E3A06E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8D8-4582-4EB4-887B-F6CE4F85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184-7968-405B-B480-9037B2C3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0BA-D038-420E-97F5-0AEE342E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771D-FE83-4E12-BF78-F2A342E12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E38E-1BFE-4C8F-B087-99EEF468F1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 and Me, We and 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 and 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in the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subject part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of a senten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Jon and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had spaghetti for supp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me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in the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predicate part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of a senten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o you want to come with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me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lways use yourself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last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when you talk about yourself and another perso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We and 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Use we and us when you talk about yourself and another perso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we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in the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subject part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of a senten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We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had spaghetti for supp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us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in the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predicate part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of a senten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o you want to come with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us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 and Me, We and 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___________ are going to the movies. (We or U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you go with ________ to the party? (I or m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ose flowers belong to ________. (we or u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a and ___________ are moving to Texas with our parents. (I or m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8:03:18Z</dcterms:created>
  <dc:creator>GCSD</dc:creator>
  <dc:description/>
  <dc:language>en-US</dc:language>
  <cp:lastModifiedBy>teacher</cp:lastModifiedBy>
  <dcterms:modified xsi:type="dcterms:W3CDTF">2011-02-07T01:13:03Z</dcterms:modified>
  <cp:revision>6</cp:revision>
  <dc:subject/>
  <dc:title>I and Me, We and Us</dc:title>
</cp:coreProperties>
</file>